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2B1-B014-42AE-8600-9BBF42F8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9EA-DBF4-4360-87C5-0FCAB02F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D21-B1AF-4B05-8ED7-0DAF6ED6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C0C-40F5-4280-AF6E-2BCAAB8E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7AD-1F63-43AF-A443-0B73222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85A-7335-44A8-971D-21D2A01C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DF9-C9B8-46CD-BC5F-CA8432F2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57A-EF70-462A-A89C-979A6A9A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A13-FA49-4CC4-9E0D-76F02454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1C1-9062-4AF6-98BF-449B0C2C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462-81AD-4261-A381-BC5B1E9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146-874A-4E18-9D4F-B42100B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660720"/>
            <a:ext cx="304200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94896-8BBF-4BA8-9505-DC47465B36D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0200" y="3738600"/>
            <a:ext cx="1760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00600" y="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9601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-1440" y="3960"/>
            <a:ext cx="32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9280080" y="216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804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760" y="3819600"/>
            <a:ext cx="2800440" cy="1405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Desire and trouble are two branches of the same tre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- Welsh prover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60800" y="3902040"/>
            <a:ext cx="400068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People wh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Gigi"/>
              </a:rPr>
              <a:t>lov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each other, tell each other a thousand things without saying 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Papyrus"/>
              </a:rPr>
              <a:t>word</a:t>
            </a: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~ Cambodian prover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21760" y="4226040"/>
            <a:ext cx="1039680" cy="1137960"/>
          </a:xfrm>
          <a:prstGeom prst="cloudCallout">
            <a:avLst>
              <a:gd name="adj1" fmla="val -11537"/>
              <a:gd name="adj2" fmla="val 107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5943600"/>
            <a:ext cx="1336680" cy="12193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80520" y="4470480"/>
            <a:ext cx="720720" cy="568080"/>
          </a:xfrm>
          <a:custGeom>
            <a:avLst/>
            <a:gdLst>
              <a:gd name="textAreaLeft" fmla="*/ 169200 w 720720"/>
              <a:gd name="textAreaRight" fmla="*/ 550800 w 720720"/>
              <a:gd name="textAreaTop" fmla="*/ 66600 h 568080"/>
              <a:gd name="textAreaBottom" fmla="*/ 356400 h 56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756400"/>
            <a:ext cx="40006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To love someone who does not love you, is like shaking a tree to make the dew drops fall. </a:t>
            </a:r>
            <a:br>
              <a:rPr sz="25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Bradley Hand ITC"/>
              </a:rPr>
              <a:t>~ Congolese Prove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052000">
            <a:off x="7140960" y="692640"/>
            <a:ext cx="1776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sto MT"/>
              </a:rPr>
              <a:t>If there is something you want, but you can’t have, find a way to get it, or find a way to get over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sto MT"/>
              </a:rPr>
              <a:t>~ African prover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040000" y="637200"/>
            <a:ext cx="1606680" cy="256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If you can’t be with the one you love, love the one you’re wi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~ Stephen St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400640" cy="98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7924680" y="-360"/>
            <a:ext cx="1395360" cy="136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0800000">
            <a:off x="399960" y="1463040"/>
            <a:ext cx="40197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Love &amp;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Relationship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11:21Z</dcterms:created>
  <dc:creator>nsmith</dc:creator>
  <dc:description/>
  <dc:language>en-US</dc:language>
  <cp:lastModifiedBy>nsmith</cp:lastModifiedBy>
  <dcterms:modified xsi:type="dcterms:W3CDTF">2010-04-15T13:51:5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